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 в теорию национальной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чик: Фролова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редмета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ка формирования и развития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ченко П.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чает, что предмет изучения национальной экономики – совокупность производительных сил и производственных отношений, социокультурных традиций ведения хозяйства и ценностей, влияющих на особенности экономического роста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/ ред. Савченко П.В.. – М., 2005. - С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национальной экономики - э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льная характеристика хозяйства страны, его структуры в длительной исторической ретроспективе с учетом действия неэкономических факторов (политики, права, культуры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ью национальной экономики являе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ие логики формирования развития и трансформации хозяйства страны с позиций поведения его субъектов и во взаимодействии со всеми неэкономическими под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ка формирования и развит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ю недолгую историю существования данной теоретической концепции можно условно раздел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5 основных этап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 возникновения национальной экономики датируется 40-ми годами 19 века. В это время в Германии появилась старая историческая школа во главе с  Ф. Листом (1789-1846) которому принадлежит слава отца – основателя теории национальной 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41 года Ф. Лист опубликовал свою основную работу под названием «Национальная система политической экономии», в которой нашли отражение его  основные иде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я – это моральная наука. Ее объектом является человек, не только хозяйствующий в связи  с необходимостью, обусловленной естественными законами, но и обладающий свободной волей, накладывающий отпечаток своего духа на мир. Национальная экономия должна быть этической наукой, поскольку человек имеет свободную волю. Фактором дальнейшего развития человека и данной экономической системы является свобода, потому что она делает возможным многообразие, которое одновременно служит предпосылкой для индивидуального выражения духовного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и совместной социальной жизни имеют иной вид, чем те, которые могли показать естественные науки. Поворот классической школы к системе  laissez – faire следует отвергнуть вследствие ее тезиса о гармонии, базирующегося на естественно – научных закономерностях и ее негативного восприятия государства. Большое значение экономической свободы для содействия благосостоянию не должно недооцениваться. Но этой свободы недостаточно, чтобы создать всеобщее благосостояние, необходимо активное участие государства в формировании эффективной экономическ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примера экономического развития для Германии в области стимулирования производительных сил, а также защиты отечественного производства в форме воспитательных пошлин может выступать Англия. Воспитательные пошлины предполагают таможенную защиту молодых отраслей национальной промышленности, пока они не достигнут уровня международной конкурентоспособ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редмета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ческая экономия национальных производительных сил как способности создавать богатство нации, в состав которых включаются различные институты (религия, общественные организации и т.д.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-е годы 19 века, в Германии начала формироваться новая историческая школа во главе с Г. Шмоллером (1838-1912) и К.Бюхером (1847-1930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данных автор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ли концепцию народного хозяйства центром которого являлась общность языка, истории, обычаев, культуры, что, по их мнению, крепче связывает народ, чем экономика. Политическая экономия должна стать историко-этической наукой, которая с одной стороны должна давать подробное описание реальной хозяйственной практики, а с другой  включать теорию моральных норм хозяйствования и этику формирования экономических предпочт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йне отрицательно относились к экономическому анализу без учета истории, географии, психологии, юриспруденции и  других черт, определяющих национальное своеобразие. Не считали возможным применение в экономическом анализе математических методов, так как доказывали, что человеческое поведение – очень сложная задача для дифференциального исчисления. Однако авторы приветствовали использование статистического материала, описывающего реальные хозяйстве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ли общую схему экономического развития народов Европы  с выделением трех этапов в зависимости от длины пути, проходимого продуктом от производителя до потребителя: домашнее хозяйство (предметы потребляются там, где производятся) – городское хозяйство (произведенные предметы непосредственно поступают в хозяйства, которые их потребляют) – народное хозяйство (предметы проходят ряд посредников, прежде чем дойдут до конечного потребител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-40-х гг. ХХ века в Германии появилось экономическое направление, получившее название «Ордолиберализм» которое отражало специфику методологического подхода ученых к исследованию экономической систе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 идеологом данного подхода является В.Ойкен (1891-1950), перу которого принадлежит две знаменательные книги «Основы национальной экономии» - 1940 года издания и «Основные принципы экономической политики» подготовленная женой ученого и изданная посмертно в 1952 год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йкен провел морфологический анализ экономической действительности и выделил ограниченное число «чистых форм», из которых образуются разнообразные хозяйственные порядки. Последние сводятся к нескольким идеальным типам хозяйства, из которых непосредственно выводится категория «хозяйственный порядок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Ойкен понимал как совокупность обычаев, писаных и неписаных правил и норм поведения, а также механизмов, обеспечивающих их реализ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экономики рассматривается лишь как элемент общественной системы, взаимосвязанный с другими элементами – государственным устройством, правовым устройством и так далее. Ойкен выдвинул положение о взаимозависимости порядков (интердепенденции), то есть взаимозависимости и взаимообусловленности политического, экономического, социального, правового поряд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щим элементом эффективного хозяйственного порядка является свободная конкуренция, которая гарантирует личные права и свободы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общественное хозяйство определенной стр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70-е годы ХХ века идеи теории национальной экономики переросли географические рамки Германии и получили признание науки и общественности в других страна, в том числе во Франции. В этот период французская экономическая мысль развивалась под флагом  институционально-социологической традиции во главе с  Ф.Перру (1903-1987), Р.Бар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0-е годы ХХ века идей теории национальной экономики начали обретать и российские контур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влиянием дискуссий видных представителей современной российской экономической науки – А. П. Градова, Л. Абалкина, А. В. Сидоровича, Е.Т. Гайдара и других начала разрабатываться концепция трансформации, учитывающая уникальные национальные особенности России, реализуемые, прежде всего в природно-географическом, политическом, идеологическом, культурном аспект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овременном этапе теория национальной экономики в России развивается по двум основным направлениям – это описание хозяйственной системы нашей страны или выявление факторов, которые определяют национальное своеобразие любо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«Национальная экономика» имеет тройственный смыс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система общественного хозяйства, сложившаяся на территории определенно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 как отрасль экономической науки, изучающая закономерности формирования, функционирования и развития хозяйства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учебная дисциплина в системе подготовки специалистов в рамках высше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о предмете теории национальной экономики до сих пор окончательно не решен. Существует две основных точки зрения по этому повод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сательный подхо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ронники этой позиции полагают, что предмет национальной экономики – это экономическая система конкретной стра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поход имеет много последователей, однако обладает низкой познавательной ценностью так как на практике сводится к элементарному макроэкономическому описанию экономической системы той или иной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тический подхо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ронники этой позиции малочисленны, но подход более плодотворный, так как он позволяет выйти на качественно новый уровень осмысления сущности экономических процессов в масштабах все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дов А.П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агает, что национальная экономика – это структурированная в отраслевом и региональном аспектах экономическая деятельность в масштабах страны, регулирование институциональной системы, отвечающей складывающемуся в этой стране экономическому, политическому и идеологическому порядкам. Акцент в данном определении автора смещен на структурную составляющую хозяйственной деятельности и влияние на экономические процессы и явления параметров порядка  в идеологическом и политическом аспект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дов А.П.  Национальная экономика – СПб, 2005. – С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дорович А.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чает, что изучение экономического строя общества, национальной экономической системы должно опираться на выявление как общих закономерностей экономического развития, которые неизбежно преломляются в экономике страны, так и ее своеобразия, вытекающего из неэкономических основ жизни общества и сочетания различных укладов экономической жизни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экономической теории…/ ред. Сидоровича А.В.. – М., 2001. – С.4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038-F6D8-4705-9256-E0A8A185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F0BB-2E0A-47E2-8163-82445762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9D3-8F3F-46BC-9000-A20384AD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161-B464-4E77-9027-2754C975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AFE3-892F-4E21-BD73-32E55F78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7764-96E9-4150-81B6-5609BE3C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6CAB-3781-4C5D-8B6B-05EBDC76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90B8-1380-42FF-B5E8-610A5156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51F7-ECEE-41DC-A39D-E61964C1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2FB8-CF28-4150-AF77-2A142FAC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3A9C-E146-496E-B76E-D55D0B10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91AF-6900-41EA-8B7D-9BE7AA5C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05B2-E370-4127-AAB7-26988371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81B6-001E-415B-9313-A43D1081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1FFD-7CBB-4495-AD01-781CC0DE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6F60-14AD-4E08-944D-7B6CA3C3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CD38-D775-4896-AC1F-B6A1A76F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327-D79F-4970-ACE2-27C5161B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CCB3-A3CD-460E-BF3C-61CDD63D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9AB2-2BBF-4F70-99B7-3F667F1F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8332-FD49-4323-97A0-4C7B0EA0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C7AA-21A9-412F-B924-83FECCBB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8336-C4DD-449C-9BE4-17578FD5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EE1A-16B0-4421-BCFB-5C6CF28D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CB458E-6CE5-44B5-AF8A-544F49F716E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E93602C-32F3-400D-93CC-1EF6A336F87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Введение в теорию национальной экономики</a:t>
            </a:r>
            <a:br>
              <a:rPr sz="38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разработчик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Фролова Е.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57160" y="2928960"/>
            <a:ext cx="701064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ие предмета 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гика формирования и развития 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авченко П.В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мечает, что предмет изучения национальной экономики – совокупность производительных сил и производственных отношений, социокультурных традиций ведения хозяйства и ценностей, влияющих на особенности экономического роста стра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/ ред. Савченко П.В.. – М., 2005. - С.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едмет национальной экономики - э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гральная характеристика хозяйства страны, его структуры в длительной исторической ретроспективе с учетом действия неэкономических факторов (политики, права, культур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ью национальной экономики являет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мотрение логики формирования развития и трансформации хозяйства страны с позиций поведения его субъектов и во взаимодействии со всеми неэкономическими подсистем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прос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гика формирования и разви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сю недолгую историю существования данной теоретической концепции можно условно разделить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5 основных этапов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Verdana"/>
              </a:rPr>
              <a:t>Этап 1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 возникновения национальной экономики датируется 40-ми годами 19 века. В это время в Германии появилась старая историческая школа во главе с  Ф. Листом (1789-1846) которому принадлежит слава отца – основателя теории национальной эконом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42760" y="1752480"/>
            <a:ext cx="592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1841 года Ф. Лист опубликовал свою основную работу под названием «Национальная система политической экономии», в которой нашли отражение его  основные иде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857240" y="5072040"/>
            <a:ext cx="506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F:\list.gif"/>
          <p:cNvPicPr/>
          <p:nvPr/>
        </p:nvPicPr>
        <p:blipFill>
          <a:blip r:embed="rId1"/>
          <a:stretch/>
        </p:blipFill>
        <p:spPr>
          <a:xfrm>
            <a:off x="642960" y="2357280"/>
            <a:ext cx="1643040" cy="2786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я – это моральная наука. Ее объектом является человек, не только хозяйствующий в связи  с необходимостью, обусловленной естественными законами, но и обладающий свободной волей, накладывающий отпечаток своего духа на мир. Национальная экономия должна быть этической наукой, поскольку человек имеет свободную волю. Фактором дальнейшего развития человека и данной экономической системы является свобода, потому что она делает возможным многообразие, которое одновременно служит предпосылкой для индивидуального выражения духовного чело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ономерности совместной социальной жизни имеют иной вид, чем те, которые могли показать естественные науки. Поворот классической школы к системе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issez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r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ледует отвергнуть вследствие ее тезиса о гармонии, базирующегося на естественно – научных закономерностях и ее негативного восприятия государства. Большое значение экономической свободы для содействия благосостоянию не должно недооцениваться. Но этой свободы недостаточно, чтобы создать всеобщее благосостояние, необходимо активное участие государства в формировании эффективной экономической систе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755640" y="1752480"/>
            <a:ext cx="72453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 качестве примера экономического развития для Германии в области стимулирования производительных сил, а также защиты отечественного производства в форме воспитательных пошлин может выступать Англия. Воспитательные пошлины предполагают таможенную защиту молодых отраслей национальной промышленности, пока они не достигнут уровня международной конкурентоспособ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Вопрос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ение предмета теории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итическая экономия национальных производительных сил как способности создавать богатство нации, в состав которых включаются различные институты (религия, общественные организации и т.д.)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-125640"/>
            <a:ext cx="8001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Этап 2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0-е годы 19 века, в Германии начала формироваться новая историческая школа во главе с Г. Шмоллером (1838-1912) и К.Бюхером (1847-1930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идеи данных авторов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ли концепцию народного хозяйства центром которого являлась общность языка, истории, обычаев, культуры, что, по их мнению, крепче связывает народ, чем экономика. Политическая экономия должна стать историко-этической наукой, которая с одной стороны должна давать подробное описание реальной хозяйственной практики, а с другой  включать теорию моральных норм хозяйствования и этику формирования экономических предпочт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6480" indent="-436680">
              <a:lnSpc>
                <a:spcPct val="97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айне отрицательно относились к экономическому анализу без учета истории, географии, психологии, юриспруденции и  других черт, определяющих национальное своеобразие. Не считали возможным применение в экономическом анализе математических методов, так как доказывали, что человеческое поведение – очень сложная задача для дифференциального исчисления. Однако авторы приветствовали использование статистического материала, описывающего реальные хозяйственные процесс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6480" indent="-436680">
              <a:lnSpc>
                <a:spcPct val="97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ли общую схему экономического развития народов Европы  с выделением трех этапов в зависимости от длины пути, проходимого продуктом от производителя до потребителя: домашнее хозяйство (предметы потребляются там, где производятся) – городское хозяйство (произведенные предметы непосредственно поступают в хозяйства, которые их потребляют) – народное хозяйство (предметы проходят ряд посредников, прежде чем дойдут до конечного потребител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Этап 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071800" y="1752480"/>
            <a:ext cx="6495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0-40-х гг. ХХ века в Германии появилось экономическое направление, получившее название «Ордолиберализм» которое отражало специфику методологического подхода ученых к исследованию экономической систем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ым идеологом данного подхода является В.Ойкен (1891-1950), перу которого принадлежит две знаменательные книги «Основы национальной экономии» - 1940 года издания и «Основные принципы экономической политики» подготовленная женой ученого и изданная посмертно в 1952 год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2" descr="F:\eucken.gif"/>
          <p:cNvPicPr/>
          <p:nvPr/>
        </p:nvPicPr>
        <p:blipFill>
          <a:blip r:embed="rId1"/>
          <a:stretch/>
        </p:blipFill>
        <p:spPr>
          <a:xfrm>
            <a:off x="500040" y="3571920"/>
            <a:ext cx="1571760" cy="235728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йкен провел морфологический анализ экономической действительности и выделил ограниченное число «чистых форм», из которых образуются разнообразные хозяйственные порядки. Последние сводятся к нескольким идеальным типам хозяйства, из которых непосредственно выводится категория «хозяйственный порядок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рядок Ойкен понимал как совокупность обычаев, писаных и неписаных правил и норм поведения, а также механизмов, обеспечивающих их реализац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71680" y="928800"/>
            <a:ext cx="7786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рядок экономики рассматривается лишь как элемент общественной системы, взаимосвязанный с другими элементами – государственным устройством, правовым устройством и так далее. Ойкен выдвинул положение о взаимозависимости порядков (интердепенденции), то есть взаимозависимости и взаимообусловленности политического, экономического, социального, правового поряд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ающим элементом эффективного хозяйственного порядка является свободная конкуренция, которая гарантирует личные права и свободы челове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ациональная эконом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684360" y="1773360"/>
            <a:ext cx="79200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бщественное хозяйство определенной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ап 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70-е годы ХХ века идеи теории национальной экономики переросли географические рамки Германии и получили признание науки и общественности в других страна, в том числе во Франции. В этот период французская экономическая мысль развивалась под флагом  институционально-социологической традиции во главе с  Ф.Перру (1903-1987), Р.Барр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Этап 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90-е годы ХХ века идей теории национальной экономики начали обретать и российские контур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 влиянием дискуссий видных представителей современной российской экономической науки – А. П. Градова, Л. Абалкина, А. В. Сидоровича, Е.Т. Гайдара и других начала разрабатываться концепция трансформации, учитывающая уникальные национальные особенности России, реализуемые, прежде всего в природно-географическом, политическом, идеологическом, культурном аспектах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современном этапе теория национальной экономики в России развивается по двум основным направлениям – это описание хозяйственной системы нашей страны или выявление факторов, которые определяют национальное своеобразие любого государ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рмин «Национальная экономика» имеет тройственный смысл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79280" y="1916280"/>
            <a:ext cx="8353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как система общественного хозяйства, сложившаяся на территории определенного государ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 как отрасль экономической науки, изучающая закономерности формирования, функционирования и развития хозяйства стр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как учебная дисциплина в системе подготовки специалистов в рамках высшего профессионального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прос о предмете теории национальной экономики до сих пор окончательно не решен. Существует две основных точки зрения по этому поводу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исательный подход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ронники этой позиции полагают, что предмет национальной экономики – это экономическая система конкретной стран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й поход имеет много последователей, однако обладает низкой познавательной ценностью так как на практике сводится к элементарному макроэкономическому описанию экономической системы той или иной стра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-125640"/>
            <a:ext cx="8001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Аналитический подход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ронники этой позиции малочисленны, но подход более плодотворный, так как он позволяет выйти на качественно новый уровень осмысления сущности экономических процессов в масштабах всего государ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радов А.П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агает, что национальная экономика – это структурированная в отраслевом и региональном аспектах экономическая деятельность в масштабах страны, регулирование институциональной системы, отвечающей складывающемуся в этой стране экономическому, политическому и идеологическому порядкам. Акцент в данном определении автора смещен на структурную составляющую хозяйственной деятельности и влияние на экономические процессы и явления параметров порядка  в идеологическом и политическом аспект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адов А.П.  Национальная экономика – СПб, 2005. – С.4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идорович А.В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мечает, что изучение экономического строя общества, национальной экономической системы должно опираться на выявление как общих закономерностей экономического развития, которые неизбежно преломляются в экономике страны, так и ее своеобразия, вытекающего из неэкономических основ жизни общества и сочетания различных укладов экономической жизни стра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рс экономической теории…/ ред. Сидоровича А.В.. – М., 2001. – С.4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LEGION</cp:lastModifiedBy>
  <dcterms:modified xsi:type="dcterms:W3CDTF">2016-01-04T14:03:19Z</dcterms:modified>
  <cp:revision>36</cp:revision>
  <dc:subject/>
  <dc:title>Лекция  Инфляция и безработица в экономике</dc:title>
</cp:coreProperties>
</file>